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5D0-5A95-478F-A25D-F39E26CD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837-F452-4ED1-BDC5-4166E4E7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272-29C1-4135-8527-07385228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ED0-A475-431D-94E5-2B8AA11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FC37-7FB7-4EFA-83DD-2D49FA11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993-6FE8-438F-A276-83101196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4EB4-E6B7-4CBA-A57B-3C506D9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4F9B-C7D3-4490-9B88-4E6782CC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50B3-C68A-4B29-886A-C4A03A29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2BD7-0CDD-4367-8C12-CB1AE777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1C67-5648-4437-8D85-2E6D65E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B1D-FAF7-410A-B8B5-D3BD8261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295C-DD6F-489C-8AEA-3382F74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D896-8AB6-407E-8AA6-9C45594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EE4A-166E-4205-BFE2-EC46FB29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3B9-5A19-45B7-B783-7DD63CAB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BA2-197E-4478-9DD4-065BF7AC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B1-5718-46D7-ACA6-4A99C6E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23A-33A0-4FF1-9185-9899598D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BA5-EDD5-4FD0-90BE-FF7D3EC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6CC-710A-4208-A748-C2885D2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886-5B10-45A2-99BD-C005683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9CE-2329-498D-B6AE-A5AF352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A86-4A1A-4D5B-90AE-F0E3AE8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FA1A-5BA2-4ECC-B1A9-3F66BA48E9C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271-9186-4F25-8C92-5993A0A0C84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wikipedia.org/wiki/Image:King_Louis_XIII.jpg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wikipedia.org/wiki/Image:King_Louis_XIII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wikipedia.org/wiki/Image:King_Louis_XIII.jpg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bsolute St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rchs ruled by divin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ereignty = the r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religious s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shed some lib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with no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rsonal Character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the state”—Louis used this expression to describe his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this say about his view of him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vagant lifestyle—Louis XIV spent royal money on lavish meals, clothing and pala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morning, his nobles would be waiting to dress him when he awoke.  If a noble was not there, Louis XIV considered him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ersonal Characteristics (continued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XIV unwillingly married Maria Theresa, a Spanish princess, but this was not the end of his love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vagant king had five known mistresses and bore several illegitimate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695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king at age 4 after the death of his fath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uis X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’ moth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e of Aust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ed as the regent, but Cardinal Mazarin was the real ruler of France until his death in 16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7012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King Louis XIII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2438280"/>
            <a:ext cx="1668600" cy="225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nne of Austria, &#13;&#10;(Click on Picture to View Full Size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2438280"/>
            <a:ext cx="1766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ce of Westphalia in 1648 officially ended the powers of the Holy Roman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then began increasing his central control of the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ed to make France economically self-sufficient with the help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an Baptiste Colb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inister of fin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ve government support to French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d Mercantilism (people moved to Canada to provide fur for manufacturing and a market for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ok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ct of 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at was the Edict of Na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ave the Huguenots the right to worship fre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ow did this effect France social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Huguenots fled to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of the Spanish Succ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IV spent more than ½ of his reign at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Spain fought against most of the other European powers to defend Louis’ grandson’s inheritance of the Spanish th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d by the Treaty of Utrecht that said the thrones of Spain and France could never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long war was lost by France and devastated the popularity of the mon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XIV reigned for 54 years--the longest reign in European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became his own chief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eld the power in his own hands instead of allowing others to rule for him when he was old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oin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nd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llect taxes, recruit solders and administer roy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d businesses, promoted trade and established high tariffs to promote his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ganized the French army and increased its size to 400,000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d the exploration and settlement of Canada in order to give France more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lace of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made Versailles the center of his government (12 miles from Par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French nobles lived with him at Versail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y do you think Louis XIV required most of the nobility to reside at Versail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at was Louis’ purpose in building the palace so luxurious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6400800" cy="373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5181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IV on his horse outside the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bsolute St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to economic problems was the key to the monarch’s power and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eaucrats served the king, not themsel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anent standing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Picture of Verlailles France"/>
          <p:cNvPicPr/>
          <p:nvPr/>
        </p:nvPicPr>
        <p:blipFill>
          <a:blip r:embed="rId2"/>
          <a:stretch/>
        </p:blipFill>
        <p:spPr>
          <a:xfrm>
            <a:off x="1600200" y="762120"/>
            <a:ext cx="685800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71800" y="5562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ace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Picture of Verlailles France"/>
          <p:cNvPicPr/>
          <p:nvPr/>
        </p:nvPicPr>
        <p:blipFill>
          <a:blip r:embed="rId2"/>
          <a:stretch/>
        </p:blipFill>
        <p:spPr>
          <a:xfrm>
            <a:off x="4038480" y="380880"/>
            <a:ext cx="4156200" cy="609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1676520"/>
            <a:ext cx="26672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of the ceiling of the Chapel Royal, where Louis XIV, Louis XV, and Louis XVI attended daily ma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Picture of Verlailles France"/>
          <p:cNvPicPr/>
          <p:nvPr/>
        </p:nvPicPr>
        <p:blipFill>
          <a:blip r:embed="rId2"/>
          <a:stretch/>
        </p:blipFill>
        <p:spPr>
          <a:xfrm>
            <a:off x="1295280" y="609480"/>
            <a:ext cx="3459240" cy="5791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2362320"/>
            <a:ext cx="32767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of the Chapel Royal, containing both Baroque and Gothic elements, the work of Jules Hardouin-Mansar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terest in th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ced the title role in the balle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n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art changed since the Middle Ages and the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hat was the new purpose of 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lorify the mon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accomplish all of these things, Louis XIV spent enormous amounts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his reign in 1715, the debt of the Royal family was about 2.1 trillion doll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e expenditures an example of absolut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Henry IV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. 1589-1610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93600" indent="-554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o establish the Bourba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an to curtain privileges of the French n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stant but converted to Catholicism in 1593 because, “Paris is worth the Ma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ict of 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ke of Sully – finance minister – revived royal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3240" indent="-475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ed taxes to pay for a standing army, consolidated justice, repaired roads, encouraged new business ventures, kept the 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assinated in 1610 &amp; succeeded by his 9-year-old son (Louis X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Louis XIII 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. 1610 – 1643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nobles and the Huguenots tried to press for their own interests at the expense of royal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e de Medici, the queen mother, engaged the assistance of Cardinal Richelieu to serve as Louis’ chief minister in 16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ichelie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cheli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duced power and influence of n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ed fortified cas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districts run by int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ived Huguenots of fortified c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law – the king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 France into the Thirty Years’ War in support of Protestant cause in order to defeat its Catholic Habsburg rivals who ruled Austria and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 protests due to unemployment, high food prices, grain shortages, new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French Acade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uis X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648, France was the most powerful country on the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inal Mazar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ceeded Richelieu and continued the same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onde – protests – began in provinces as civil wars against taxation and growing roy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uis XIV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5600" y="4876920"/>
            <a:ext cx="381996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n K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1643 - 17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6612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6121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6612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Louis XIV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. 1643-1715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ed the height of absolu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ed to rule by divine right –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n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less wars left France deeply in debt and eventually to the collapse of the French monarchy in the 18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pt enemies (nobility) close at hand at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d councils of upper middl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called the Estates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lbe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66880"/>
            <a:ext cx="768852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972720" indent="-54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ance Min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mercantilism - France should sell abroad and buy n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projects – roads, ca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gui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lished domestic tariffs and raised foreign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wool industry to the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s still heavily ta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XIV revoked Edict of Nantes in 16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0280" indent="-620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23:33:39Z</dcterms:created>
  <dc:creator>Kimberly Wenrich</dc:creator>
  <dc:description/>
  <dc:language>en-US</dc:language>
  <cp:lastModifiedBy>Susan Vanderpool</cp:lastModifiedBy>
  <dcterms:modified xsi:type="dcterms:W3CDTF">2003-10-29T02:10:24Z</dcterms:modified>
  <cp:revision>14</cp:revision>
  <dc:subject/>
  <dc:title>Louis XIV</dc:title>
</cp:coreProperties>
</file>